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4ECB0-4312-485E-88AB-E3A3AFFA5BB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110D1-7E07-4C31-B06C-A186DCA641E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0B53-1FB7-4FEF-B1E7-7BFCC03B1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1B2B-A425-4A69-9F71-AB53C8EAB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CC95-68C7-40C6-8799-225BA78F2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3624-594B-457F-91B8-CC6C38F2C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9487-7911-4DAB-9D4B-347EA234B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70C3-555B-4424-A0E5-4112407D6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88BE-FCA9-4EDF-B9CC-57FD183F4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4A95-BAA5-4286-AA9F-93D3DF6A5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49E2-B7B5-4D5A-9F9A-B0451D1D0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87D8-894C-4217-AE08-4545ED1B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4B0A-42F7-451B-928A-DC91158C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1C49-2C93-4C96-B1F9-F8CF7D02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8EF17-A5EF-4130-8982-45E4FFD4746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a%20(65)"/>
          <p:cNvPicPr/>
          <p:nvPr/>
        </p:nvPicPr>
        <p:blipFill>
          <a:blip r:embed="rId1"/>
          <a:stretch/>
        </p:blipFill>
        <p:spPr>
          <a:xfrm>
            <a:off x="252360" y="982800"/>
            <a:ext cx="4429080" cy="5327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20060921101416597"/>
          <p:cNvPicPr/>
          <p:nvPr/>
        </p:nvPicPr>
        <p:blipFill>
          <a:blip r:embed="rId2"/>
          <a:stretch/>
        </p:blipFill>
        <p:spPr>
          <a:xfrm>
            <a:off x="4716360" y="981000"/>
            <a:ext cx="4103640" cy="53737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1476360" y="981000"/>
            <a:ext cx="7467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Calibri"/>
              </a:rPr>
              <a:t>28  </a:t>
            </a:r>
            <a:r>
              <a:rPr b="1" lang="zh-CN" sz="9600" spc="-1" strike="noStrike">
                <a:solidFill>
                  <a:srgbClr val="ff0000"/>
                </a:solidFill>
                <a:latin typeface="Calibri"/>
              </a:rPr>
              <a:t>狮子和鹿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5364000" y="4365720"/>
            <a:ext cx="3810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Calibri"/>
              </a:rPr>
              <a:t>                </a:t>
            </a:r>
            <a:r>
              <a:rPr b="1" lang="zh-CN" sz="2800" spc="-1" strike="noStrike">
                <a:solidFill>
                  <a:srgbClr val="000066"/>
                </a:solidFill>
                <a:latin typeface="Calibri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啊！我的身段多么匀称，我的角多么精美别致，好像两束美丽的珊瑚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图片 1" descr=""/>
          <p:cNvPicPr/>
          <p:nvPr/>
        </p:nvPicPr>
        <p:blipFill>
          <a:blip r:embed="rId1"/>
          <a:stretch/>
        </p:blipFill>
        <p:spPr>
          <a:xfrm>
            <a:off x="468360" y="814320"/>
            <a:ext cx="3959280" cy="5326200"/>
          </a:xfrm>
          <a:prstGeom prst="rect">
            <a:avLst/>
          </a:prstGeom>
          <a:ln w="0">
            <a:noFill/>
          </a:ln>
        </p:spPr>
      </p:pic>
      <p:pic>
        <p:nvPicPr>
          <p:cNvPr id="76" name="图片 2" descr=""/>
          <p:cNvPicPr/>
          <p:nvPr/>
        </p:nvPicPr>
        <p:blipFill>
          <a:blip r:embed="rId2"/>
          <a:stretch/>
        </p:blipFill>
        <p:spPr>
          <a:xfrm>
            <a:off x="5003640" y="716040"/>
            <a:ext cx="334332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1447920" y="173844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Calibri"/>
              </a:rPr>
              <a:t>       </a:t>
            </a:r>
            <a:r>
              <a:rPr b="1" lang="zh-CN" sz="4800" spc="-1" strike="noStrike">
                <a:solidFill>
                  <a:srgbClr val="ff00ff"/>
                </a:solidFill>
                <a:latin typeface="Calibri"/>
              </a:rPr>
              <a:t>唉，这四条腿太细了，怎么能配得上这两只美丽的角呢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QQ图片20151228174349"/>
          <p:cNvPicPr/>
          <p:nvPr/>
        </p:nvPicPr>
        <p:blipFill>
          <a:blip r:embed="rId1"/>
          <a:stretch/>
        </p:blipFill>
        <p:spPr>
          <a:xfrm>
            <a:off x="157320" y="857160"/>
            <a:ext cx="882936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PO3WM9B9G)ZMRLFE)Z9)({A"/>
          <p:cNvPicPr/>
          <p:nvPr/>
        </p:nvPicPr>
        <p:blipFill>
          <a:blip r:embed="rId1"/>
          <a:stretch/>
        </p:blipFill>
        <p:spPr>
          <a:xfrm>
            <a:off x="539640" y="1125360"/>
            <a:ext cx="3079800" cy="3464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QQ图片20151228174454"/>
          <p:cNvPicPr/>
          <p:nvPr/>
        </p:nvPicPr>
        <p:blipFill>
          <a:blip r:embed="rId2"/>
          <a:stretch/>
        </p:blipFill>
        <p:spPr>
          <a:xfrm>
            <a:off x="4281480" y="3139920"/>
            <a:ext cx="317016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0" y="765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鹿不敢犹豫，撒开长腿就跑。有力的长腿在灌木丛中蹦来跳去，不一会儿，就把凶猛的狮子远远地甩在了后面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0" y="3584520"/>
            <a:ext cx="883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眼看就要追上了，鹿用尽身力气，使劲一扯，才把两只角从树枝中挣脱出来，然后又拼命向前奔去。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469800" y="981000"/>
            <a:ext cx="813600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PO3WM9B9G)ZMRLFE)Z9)({A"/>
          <p:cNvPicPr/>
          <p:nvPr/>
        </p:nvPicPr>
        <p:blipFill>
          <a:blip r:embed="rId1"/>
          <a:stretch/>
        </p:blipFill>
        <p:spPr>
          <a:xfrm>
            <a:off x="4645080" y="1054080"/>
            <a:ext cx="4017960" cy="5184720"/>
          </a:xfrm>
          <a:prstGeom prst="rect">
            <a:avLst/>
          </a:prstGeom>
          <a:ln w="0">
            <a:noFill/>
          </a:ln>
        </p:spPr>
      </p:pic>
      <p:grpSp>
        <p:nvGrpSpPr>
          <p:cNvPr id="85" name="Group 3"/>
          <p:cNvGrpSpPr/>
          <p:nvPr/>
        </p:nvGrpSpPr>
        <p:grpSpPr>
          <a:xfrm>
            <a:off x="611280" y="1268280"/>
            <a:ext cx="3384000" cy="1150920"/>
            <a:chOff x="611280" y="1268280"/>
            <a:chExt cx="3384000" cy="1150920"/>
          </a:xfrm>
        </p:grpSpPr>
        <p:sp>
          <p:nvSpPr>
            <p:cNvPr id="86" name="AutoShape 4"/>
            <p:cNvSpPr/>
            <p:nvPr/>
          </p:nvSpPr>
          <p:spPr>
            <a:xfrm flipH="1">
              <a:off x="611280" y="1268280"/>
              <a:ext cx="3384000" cy="1150920"/>
            </a:xfrm>
            <a:prstGeom prst="cloudCallout">
              <a:avLst>
                <a:gd name="adj1" fmla="val -43754"/>
                <a:gd name="adj2" fmla="val 67643"/>
              </a:avLst>
            </a:prstGeom>
            <a:solidFill>
              <a:srgbClr val="a1f2fd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Text Box 5"/>
            <p:cNvSpPr/>
            <p:nvPr/>
          </p:nvSpPr>
          <p:spPr>
            <a:xfrm>
              <a:off x="1189080" y="1403280"/>
              <a:ext cx="2190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ff"/>
                  </a:solidFill>
                  <a:latin typeface="Calibri"/>
                </a:rPr>
                <a:t>       </a:t>
              </a:r>
              <a:r>
                <a:rPr b="1" lang="zh-CN" sz="2400" spc="-1" strike="noStrike">
                  <a:solidFill>
                    <a:srgbClr val="ff00ff"/>
                  </a:solidFill>
                  <a:latin typeface="Calibri"/>
                </a:rPr>
                <a:t>我要锯掉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ff"/>
                  </a:solidFill>
                  <a:latin typeface="Calibri"/>
                </a:rPr>
                <a:t>这两只角！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6"/>
          <p:cNvGrpSpPr/>
          <p:nvPr/>
        </p:nvGrpSpPr>
        <p:grpSpPr>
          <a:xfrm>
            <a:off x="755640" y="3357720"/>
            <a:ext cx="2695680" cy="1807920"/>
            <a:chOff x="755640" y="3357720"/>
            <a:chExt cx="2695680" cy="1807920"/>
          </a:xfrm>
        </p:grpSpPr>
        <p:sp>
          <p:nvSpPr>
            <p:cNvPr id="89" name="AutoShape 7"/>
            <p:cNvSpPr/>
            <p:nvPr/>
          </p:nvSpPr>
          <p:spPr>
            <a:xfrm>
              <a:off x="755640" y="3357720"/>
              <a:ext cx="2695680" cy="1807920"/>
            </a:xfrm>
            <a:prstGeom prst="horizontalScroll">
              <a:avLst>
                <a:gd name="adj" fmla="val 12500"/>
              </a:avLst>
            </a:prstGeom>
            <a:solidFill>
              <a:srgbClr val="a1f2fd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Text Box 8"/>
            <p:cNvSpPr/>
            <p:nvPr/>
          </p:nvSpPr>
          <p:spPr>
            <a:xfrm>
              <a:off x="971280" y="3615840"/>
              <a:ext cx="2426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Calibri"/>
                </a:rPr>
                <a:t>  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Calibri"/>
                </a:rPr>
                <a:t>同学们讨论一下，小鹿该不该这样做呢？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990720" y="1143000"/>
            <a:ext cx="716256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说一说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写一写：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小鹿决定锯掉两只美丽的角。提示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何必呢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留着美丽的角，更好地锻炼自己的腿，才是最好的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Line 3"/>
          <p:cNvSpPr/>
          <p:nvPr/>
        </p:nvSpPr>
        <p:spPr>
          <a:xfrm>
            <a:off x="2057400" y="3809880"/>
            <a:ext cx="5562720" cy="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Line 4"/>
          <p:cNvSpPr/>
          <p:nvPr/>
        </p:nvSpPr>
        <p:spPr>
          <a:xfrm>
            <a:off x="1295280" y="4572000"/>
            <a:ext cx="5562720" cy="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FR2056"/>
          <p:cNvPicPr/>
          <p:nvPr/>
        </p:nvPicPr>
        <p:blipFill>
          <a:blip r:embed="rId1"/>
          <a:stretch/>
        </p:blipFill>
        <p:spPr>
          <a:xfrm>
            <a:off x="108000" y="981000"/>
            <a:ext cx="8964720" cy="53197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900000" y="1628640"/>
            <a:ext cx="746784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Calibri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尺有所短，寸有所长，任何事物都不可能完美无缺。不要因为它的长处而看不见它的短处，也不要因为它的短处而否定它的长处。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539640" y="1413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Calibri"/>
                <a:ea typeface="DFKai-SB"/>
              </a:rPr>
              <a:t>感情朗读、感知寓意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539640" y="2997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鹿角     美丽    差点送命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不一定有用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鹿腿     难看    奔跑救命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(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有作用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324000" y="458136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alibri"/>
              </a:rPr>
              <a:t>  </a:t>
            </a:r>
            <a:r>
              <a:rPr b="1" lang="zh-CN" sz="3200" spc="-1" strike="noStrike">
                <a:solidFill>
                  <a:srgbClr val="ff3300"/>
                </a:solidFill>
                <a:latin typeface="Calibri"/>
              </a:rPr>
              <a:t>从中我们懂得了：美丽的东西不一定有用，有用的东西不一定美丽；看待事物不应该只注重美丽的外表，还要看实际的作用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440"/>
                            </p:stCondLst>
                            <p:childTnLst>
                              <p:par>
                                <p:cTn id="12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2440"/>
                            </p:stCondLst>
                            <p:childTnLst>
                              <p:par>
                                <p:cTn id="13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835280" y="1701720"/>
            <a:ext cx="5761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Calibri"/>
              </a:rPr>
              <a:t>大家知道这个故事出自哪里吗？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WordArt 3" descr=""/>
          <p:cNvPicPr/>
          <p:nvPr/>
        </p:nvPicPr>
        <p:blipFill>
          <a:blip r:embed="rId1"/>
          <a:stretch/>
        </p:blipFill>
        <p:spPr>
          <a:xfrm>
            <a:off x="1109520" y="4651200"/>
            <a:ext cx="3138480" cy="11401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611280" y="836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cc"/>
                </a:solidFill>
                <a:latin typeface="Calibri"/>
                <a:ea typeface="楷体"/>
              </a:rPr>
              <a:t>问题：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4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828720" y="1052640"/>
            <a:ext cx="7632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外貌好看不一定是有用的，虽然外表不漂亮，却很实用。有的东西各有优缺点，在不同的情况下，优点就可能变成缺点，也不能因为有些东西存在某些缺点而看不见它的优点。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468360" y="1052640"/>
            <a:ext cx="821844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比一比：《狮子和鹿》与《陶罐和铁罐》有什么共同之处。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457200" y="3643200"/>
            <a:ext cx="822960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alibri"/>
              </a:rPr>
              <a:t>共同点</a:t>
            </a:r>
            <a:r>
              <a:rPr b="1" lang="zh-CN" sz="3200" spc="-1" strike="noStrike">
                <a:solidFill>
                  <a:srgbClr val="c0504d"/>
                </a:solidFill>
                <a:latin typeface="Calibri"/>
              </a:rPr>
              <a:t>是两篇课文告诉我们要学会全面地看问题， 正确对待自己和别人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alibri"/>
              </a:rPr>
              <a:t>表达方法上</a:t>
            </a:r>
            <a:r>
              <a:rPr b="1" lang="zh-CN" sz="3200" spc="-1" strike="noStrike">
                <a:solidFill>
                  <a:srgbClr val="c0504d"/>
                </a:solidFill>
                <a:latin typeface="Calibri"/>
              </a:rPr>
              <a:t>是两篇课文都是通过具体的事例来说明道理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17067677_1"/>
          <p:cNvPicPr/>
          <p:nvPr/>
        </p:nvPicPr>
        <p:blipFill>
          <a:blip r:embed="rId1"/>
          <a:stretch/>
        </p:blipFill>
        <p:spPr>
          <a:xfrm>
            <a:off x="3143160" y="857160"/>
            <a:ext cx="600084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828720" y="1197000"/>
            <a:ext cx="662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是古希腊民间流传的讽喻故事，经后人加工，成为现在流传的《伊索寓言》，是一部世界上最早的寓言故事集。《伊索寓言》大多是动物故事，以动物为喻，教人处世和做人的道理。其中《农夫和蛇》《狐狸和葡萄》《狼和小羊》《龟兔赛跑》《乌鸦喝水》等已成为全世界家喻户晓的故事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5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5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971640" y="90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ff"/>
                </a:solidFill>
                <a:latin typeface="Calibri"/>
                <a:ea typeface="方正祥隶简体"/>
              </a:rPr>
              <a:t>学习目标：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898560" y="2349360"/>
            <a:ext cx="655308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Calibri"/>
                <a:ea typeface="黑体"/>
              </a:rPr>
              <a:t>  </a:t>
            </a:r>
            <a:r>
              <a:rPr b="0" lang="zh-CN" sz="3200" spc="-1" strike="noStrike">
                <a:solidFill>
                  <a:srgbClr val="0000ff"/>
                </a:solidFill>
                <a:latin typeface="Calibri"/>
                <a:ea typeface="黑体"/>
              </a:rPr>
              <a:t>准确掌握字词，能自己理解归纳     文章大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Calibri"/>
                <a:ea typeface="黑体"/>
              </a:rPr>
              <a:t>  </a:t>
            </a:r>
            <a:r>
              <a:rPr b="0" lang="zh-CN" sz="3200" spc="-1" strike="noStrike">
                <a:solidFill>
                  <a:srgbClr val="0000ff"/>
                </a:solidFill>
                <a:latin typeface="Calibri"/>
                <a:ea typeface="黑体"/>
              </a:rPr>
              <a:t>朗读课文，品味语言，体会鹿对自己的双腿前后态度的转变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Calibri"/>
                <a:ea typeface="黑体"/>
              </a:rPr>
              <a:t>  </a:t>
            </a:r>
            <a:r>
              <a:rPr b="0" lang="zh-CN" sz="3200" spc="-1" strike="noStrike">
                <a:solidFill>
                  <a:srgbClr val="0000ff"/>
                </a:solidFill>
                <a:latin typeface="Calibri"/>
                <a:ea typeface="黑体"/>
              </a:rPr>
              <a:t>明白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“</a:t>
            </a:r>
            <a:r>
              <a:rPr b="0" lang="zh-CN" sz="3200" spc="-1" strike="noStrike">
                <a:solidFill>
                  <a:srgbClr val="0000ff"/>
                </a:solidFill>
                <a:latin typeface="Calibri"/>
                <a:ea typeface="黑体"/>
              </a:rPr>
              <a:t>外表并不是最重要的，有时候好看并不一定实用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”</a:t>
            </a:r>
            <a:r>
              <a:rPr b="0" lang="zh-CN" sz="3200" spc="-1" strike="noStrike">
                <a:solidFill>
                  <a:srgbClr val="0000ff"/>
                </a:solidFill>
                <a:latin typeface="Calibri"/>
                <a:ea typeface="黑体"/>
              </a:rPr>
              <a:t>  的道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Calibri"/>
                <a:ea typeface="黑体"/>
              </a:rPr>
              <a:t>  </a:t>
            </a:r>
            <a:r>
              <a:rPr b="0" lang="zh-CN" sz="3200" spc="-1" strike="noStrike">
                <a:solidFill>
                  <a:srgbClr val="0000ff"/>
                </a:solidFill>
                <a:latin typeface="Calibri"/>
                <a:ea typeface="黑体"/>
              </a:rPr>
              <a:t>品析好词佳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1600200" y="1066680"/>
            <a:ext cx="7543800" cy="51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Calibri"/>
              </a:rPr>
              <a:t>xīn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3600" spc="-1" strike="noStrike">
                <a:solidFill>
                  <a:srgbClr val="3333ff"/>
                </a:solidFill>
                <a:latin typeface="Calibri"/>
              </a:rPr>
              <a:t>yuàn   fàn        </a:t>
            </a:r>
            <a:r>
              <a:rPr b="1" lang="en-US" sz="3600" spc="-1" strike="noStrike">
                <a:solidFill>
                  <a:srgbClr val="3333ff"/>
                </a:solidFill>
                <a:latin typeface="Calibri"/>
              </a:rPr>
              <a:t>   </a:t>
            </a:r>
            <a:r>
              <a:rPr b="1" lang="zh-CN" sz="3600" spc="-1" strike="noStrike">
                <a:solidFill>
                  <a:srgbClr val="3333ff"/>
                </a:solidFill>
                <a:latin typeface="Calibri"/>
              </a:rPr>
              <a:t>yóu y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欣赏      抱怨      泛起       犹豫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3600" spc="-1" strike="noStrike">
                <a:solidFill>
                  <a:srgbClr val="3333ff"/>
                </a:solidFill>
                <a:latin typeface="Calibri"/>
              </a:rPr>
              <a:t>měng    chèn  </a:t>
            </a:r>
            <a:r>
              <a:rPr b="1" lang="en-US" sz="3600" spc="-1" strike="noStrike">
                <a:solidFill>
                  <a:srgbClr val="3333ff"/>
                </a:solidFill>
                <a:latin typeface="Calibri"/>
              </a:rPr>
              <a:t>  </a:t>
            </a:r>
            <a:r>
              <a:rPr b="1" lang="zh-CN" sz="3600" spc="-1" strike="noStrike">
                <a:solidFill>
                  <a:srgbClr val="3333ff"/>
                </a:solidFill>
                <a:latin typeface="Calibri"/>
              </a:rPr>
              <a:t>shān hú        </a:t>
            </a:r>
            <a:r>
              <a:rPr b="1" lang="en-US" sz="3600" spc="-1" strike="noStrike">
                <a:solidFill>
                  <a:srgbClr val="3333ff"/>
                </a:solidFill>
                <a:latin typeface="Calibri"/>
              </a:rPr>
              <a:t>  </a:t>
            </a:r>
            <a:r>
              <a:rPr b="1" lang="zh-CN" sz="3600" spc="-1" strike="noStrike">
                <a:solidFill>
                  <a:srgbClr val="3333ff"/>
                </a:solidFill>
                <a:latin typeface="Calibri"/>
              </a:rPr>
              <a:t> chě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凶猛     匀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称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珊瑚    使劲扯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Calibri"/>
              </a:rPr>
              <a:t>juē       zhòu       </a:t>
            </a:r>
            <a:r>
              <a:rPr b="1" lang="en-US" sz="3600" spc="-1" strike="noStrike">
                <a:solidFill>
                  <a:srgbClr val="3333ff"/>
                </a:solidFill>
                <a:latin typeface="Calibri"/>
              </a:rPr>
              <a:t>  </a:t>
            </a:r>
            <a:r>
              <a:rPr b="1" lang="zh-CN" sz="3600" spc="-1" strike="noStrike">
                <a:solidFill>
                  <a:srgbClr val="3333ff"/>
                </a:solidFill>
                <a:latin typeface="Calibri"/>
              </a:rPr>
              <a:t>sā       </a:t>
            </a:r>
            <a:r>
              <a:rPr b="1" lang="en-US" sz="36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1" lang="zh-CN" sz="3600" spc="-1" strike="noStrike">
                <a:solidFill>
                  <a:srgbClr val="3333ff"/>
                </a:solidFill>
                <a:latin typeface="Calibri"/>
              </a:rPr>
              <a:t>zhè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噘嘴     皱眉     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撒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开     挣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痛痛快快   精美别致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灰心丧气   没精打采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476360" y="1125360"/>
            <a:ext cx="358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多音字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1628640" y="1811160"/>
            <a:ext cx="6172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0" lang="zh-CN" sz="4000" spc="-1" strike="noStrike">
                <a:solidFill>
                  <a:srgbClr val="ff0000"/>
                </a:solidFill>
                <a:latin typeface="Calibri"/>
              </a:rPr>
              <a:t>èn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匀称   称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称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0" lang="zh-CN" sz="4000" spc="-1" strike="noStrike">
                <a:solidFill>
                  <a:srgbClr val="ff0000"/>
                </a:solidFill>
                <a:latin typeface="Calibri"/>
              </a:rPr>
              <a:t>ēng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名称   称赞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1781280" y="3944880"/>
            <a:ext cx="640080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ā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撒开  撒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撒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ǎ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撒种  播撒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539640" y="765000"/>
            <a:ext cx="3529080" cy="25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文写了一只鹿非常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自己那对美丽的角，却十分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条长得难看的腿。可当狮子扑来时，鹿那两只美丽的角差点儿让它（      ），而那四条难看的长腿却帮助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楷体_GB2312"/>
              </a:rPr>
              <a:t>它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）的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PO3WM9B9G)ZMRLFE)Z9)({A"/>
          <p:cNvPicPr/>
          <p:nvPr/>
        </p:nvPicPr>
        <p:blipFill>
          <a:blip r:embed="rId1"/>
          <a:stretch/>
        </p:blipFill>
        <p:spPr>
          <a:xfrm>
            <a:off x="4284720" y="981000"/>
            <a:ext cx="4191120" cy="53276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4"/>
          <p:cNvSpPr/>
          <p:nvPr/>
        </p:nvSpPr>
        <p:spPr>
          <a:xfrm>
            <a:off x="828720" y="573408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楷体_GB2312"/>
              </a:rPr>
              <a:t>狮口逃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2844720" y="5661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楷体_GB2312"/>
              </a:rPr>
              <a:t>送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828720" y="522936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楷体_GB2312"/>
              </a:rPr>
              <a:t>抱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2844720" y="508464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楷体_GB2312"/>
              </a:rPr>
              <a:t>欣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684360" y="234936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楷体_GB2312"/>
              </a:rPr>
              <a:t>抱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1692360" y="148608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楷体_GB2312"/>
              </a:rPr>
              <a:t>欣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3060720" y="44370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楷体_GB2312"/>
              </a:rPr>
              <a:t>狮口逃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3203640" y="364500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楷体_GB2312"/>
              </a:rPr>
              <a:t>送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图片3"/>
          <p:cNvPicPr/>
          <p:nvPr/>
        </p:nvPicPr>
        <p:blipFill>
          <a:blip r:embed="rId1"/>
          <a:stretch/>
        </p:blipFill>
        <p:spPr>
          <a:xfrm>
            <a:off x="108000" y="1054080"/>
            <a:ext cx="8964720" cy="519444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3"/>
          <p:cNvSpPr/>
          <p:nvPr/>
        </p:nvSpPr>
        <p:spPr>
          <a:xfrm>
            <a:off x="914400" y="167652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Calibri"/>
              </a:rPr>
              <a:t>                   </a:t>
            </a:r>
            <a:r>
              <a:rPr b="1" lang="zh-CN" sz="4800" spc="-1" strike="noStrike">
                <a:solidFill>
                  <a:srgbClr val="ff00ff"/>
                </a:solidFill>
                <a:latin typeface="Calibri"/>
              </a:rPr>
              <a:t>啊！我的身段多么匀称，我的角多么精美别致，好像两束美丽的珊瑚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4T01:26:40Z</dcterms:created>
  <dc:creator>雨林木风</dc:creator>
  <dc:description/>
  <cp:keywords/>
  <dc:language>en-US</dc:language>
  <cp:lastModifiedBy>ocean</cp:lastModifiedBy>
  <dcterms:modified xsi:type="dcterms:W3CDTF">2017-12-12T08:12:04Z</dcterms:modified>
  <cp:revision>28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4</vt:lpwstr>
  </property>
</Properties>
</file>